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3371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98840" y="0"/>
            <a:ext cx="337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11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4BACB-F062-4ACE-AC1D-899DC0453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DA734-5602-4B6E-A1CF-B6C8A74E7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EA60F-347C-4D6E-812C-5A0E43FB2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14C73-73A2-4D66-A56F-3CF312EF6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1DD32-BB69-4C81-9BF4-13DD7A418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64514-A0CA-402D-B977-ADE1ABE80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D7D4E-A794-4E50-859D-A9D7E9E87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3901F-407A-43B6-9AE0-4AD569025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6CB34-291E-45AE-8F31-841E4CAC24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ABA69-76CA-477D-8757-2FD281069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A70E5-EF28-43A0-B0E0-96C501B71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99A86-61C9-46B3-8039-FC6D34DBF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4B57-0826-41CF-973A-CF76CF81C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77D8-4479-45FC-81E4-DF2A3463712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742ED-6A2B-4374-AE01-AEAADFE9749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3680-E12B-4316-8524-2587F92FA3B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6B31-D6E2-4141-B274-169578894B4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4C149-A251-47C7-883C-5D2E282982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235E-12A6-4898-B226-011AE66D198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C719-DD1E-4D09-B711-CB2D064E070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D086-C1E6-4E43-8ACF-AF07D92EA6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F0DD-3E6F-48C3-8899-C33D2B387D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E87E-670D-4E6D-A5FD-A65C8401CEC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C178D2-9326-465B-BC59-F12B7E949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D922-CB71-4107-BB74-4CE0A7B364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69742-3C2C-4E93-AC43-BD41691D962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BB2B1-C2B7-4982-BF32-DE75D7B6E77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5DC50-3B65-43C5-87DE-7625A8F3767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48F1F-5110-4DDB-9348-FA7501F7C33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EEB792-3478-4B7D-A69F-F9EFFB75469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45731-E56A-4D08-9313-C862252A67B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312EE8-4243-4673-8631-82BD3E3512D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56712-99F4-46B9-A453-036B8B2C32D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412D3-B0F6-4B0C-BF7D-7F09E6C3C0D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9A59B-7AE2-4C35-875F-505AE4A3C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1957-498A-4460-AE72-8659433147E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3F458-87A9-4B3B-8C70-71A908312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88C28-D18B-4343-A0A5-8C5E6F743C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D7DB-C9DE-4579-A116-0790877E4B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7E74-F624-46A9-B1FF-BCEC1C6301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9EE9-A17A-47FA-A59C-05019D98A3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EBE9F-71E4-4089-82CD-4FBDC22AFA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D4E8-59F4-4BC8-AAC8-00485070D0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C167-18BC-42A3-B3CA-D6BF936408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2F8A-F0DF-4979-8F53-EB242FDFB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0BC6-C728-4B51-87A1-E9E87B92CF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7CCA-2943-44DD-B76B-25F9949E87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EF27-CA08-4F82-A65E-DA3C684F99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999C-FAD2-417F-81C1-1F8CD855B5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B4CE9-8288-4DEE-A07A-2E684181F8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CA1-644C-451F-8441-CEC0D7AD4E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9EE-BF5F-4A3F-8C19-80211664B1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CB6-50D7-4889-A3EB-BAD70684C8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DE9-4615-4CA4-AE18-BF1BDF4393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57A-3C73-459D-B234-3FC41C3F2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A172-0490-48E7-9210-299413BC3E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557-8907-4C7D-892F-6FFF9E55D2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D35-686B-4AFF-97C1-512096F6B4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CA6-19E0-4AE4-A8CA-362FF17B17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D76-5975-4BE3-9871-C8E701438C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E21-9DDD-4F31-A72D-58A7B07A07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1B6-06F9-4F42-8C2F-E84F155D52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6BA-D904-475E-83CD-26FD904C8E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83902-D3CF-4F85-B8EC-00A2872DB5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68EAC-93CA-47BE-AD3A-CFAB0E52FB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FFA6C-CF4D-402F-ABFA-61D1A7C81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D080-7A9F-4DD3-9E41-0D5D8447E0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48871-E9BD-410E-996C-6FEF806400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69A2C-CC94-491C-89B3-B27D1FD20F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483CD-FFBF-478C-BEB6-31066066D8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3F23E-DB13-4AE6-BDC8-0B1F237CB7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E710D-8EB3-4413-B0B7-8982FE362E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8760C-6680-4FF6-BC83-4120609814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DBC62-ADB5-45A2-BD51-32836B0861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27DBC-8C89-4724-87CF-D557D2AD3A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4635A-E0A4-4361-9310-462D3AC87D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ADFFD-6D85-4B81-B236-149CA21A0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EB21-DF0A-457D-80B0-CC8BF14B65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74883-958B-4A9C-92D5-24210AECDD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7C2E8-0824-4CFD-B9E8-8A4A67CAF2F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6D124-2015-417E-A0D3-295AB2B319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557FE-2D44-4022-950E-5C25EEF221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F2507-3E4C-4933-96B2-0DDF515EAD0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83D49-41CD-42A6-B9DE-C6A98294D97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80A7D-F880-4FC2-9C69-DC3D026829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EEDDC-4F2A-4BC1-AE8A-663E7035315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DCF01-DC37-4776-B4F3-6F2FE7A7FE7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72E61-DBD9-49BE-B745-EB91D9B7A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5749-AC8B-4B36-91CE-76BC7235C4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8C8CE-CBAA-4B41-A098-D0B8B3B72BD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243B-CF7F-40FD-A32B-3F0DCFA051F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2255-BAF1-406F-8AAE-2037E8667D8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9C4C-4D78-440A-9B8D-C5D8270563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030B-D9DB-4173-A43F-97C84D634BD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7B13-668B-49B2-8123-372B98E906C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BE27-1A0F-4F08-BDE3-AB3AC327A49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539F-1E19-4BA7-9B23-B0E8A0CC60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83CA-C276-4FF1-BD30-20A46AB391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8FC6-6695-427B-A5B9-C90DD1E8B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3B8C-9541-4839-A7EA-D702EC92A2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94B1-4AEA-4B25-A00B-0386724FA3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F82C-C211-4DC6-999E-3EABBBC062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CC1D-EA1D-4A67-949D-1EE68A553B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FE888-9B31-4968-BB9D-81B9A035FAC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19C21-22F9-4C43-A368-E650B8D72ED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C80B6-0F35-4A2A-B4B9-E8AE8EA9786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E4955-F910-41D6-A190-2785453B9C5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B52263-B5D6-448D-AA28-E1FDB4796E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082FEC-4A4A-4169-9C48-7F90F94500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A1212D-F0DB-413F-91E6-4DD3BE3E3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2F1A-DA11-40F6-A136-1CF62FBB8C4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0E05BE-1020-4D34-BDEF-29C73CE078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2C67E-01D0-413A-A7B8-299D586324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ABC15-C82E-4F92-B8F1-866481C721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409905-6CCF-4904-83F5-09CB8D31E2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DE3D49-ACA5-46DE-BC4D-2D21CEE850A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63973-0FCC-48E7-9D8B-E2FB11461A0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F7DA0-13E2-45D3-8019-5C5AE08375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519CA-21D6-418A-A880-1BC4C0EF32C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69458-9FCC-47BB-B722-ED21151E67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6389A-F30B-49EC-86F4-15F5756C0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83DE-9CBF-4861-BDB9-817D2EE915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16D96-FAD4-4435-AFAA-0FE4E13A262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DD9FD-036E-45AA-802A-4AEC477418D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77418-4922-422F-BE9D-C865F7DC8B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BBA3E-25D0-4524-A4DE-A77FF115BE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DFF24-DE62-403C-A02A-8C34EAD1D01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E2EB0-7033-45BD-B913-4B09695062C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2E920-0C0F-41A7-B054-849BEBB2F8A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4B6D-FC9C-4A59-B990-135A47FFC4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D5543-7D24-4313-A837-5F202D686D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66FE-1A68-4F85-BB78-9DC897E8D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428840" y="7056360"/>
            <a:ext cx="4643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32600" y="7056360"/>
            <a:ext cx="3309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9523440" y="7154640"/>
            <a:ext cx="511200" cy="35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4A9D8-7CCF-440B-BAA3-88F51F6804D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395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"/>
          <p:cNvSpPr/>
          <p:nvPr/>
        </p:nvSpPr>
        <p:spPr>
          <a:xfrm>
            <a:off x="6132600" y="705636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28840" y="7056360"/>
            <a:ext cx="4643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10"/>
          </p:nvPr>
        </p:nvSpPr>
        <p:spPr>
          <a:xfrm>
            <a:off x="9523440" y="709920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2E353-247B-4A1B-A3F4-FB6D53BA4CA8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1360" y="146160"/>
            <a:ext cx="9740880" cy="2792160"/>
            <a:chOff x="171360" y="146160"/>
            <a:chExt cx="9740880" cy="27921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71360" y="146160"/>
              <a:ext cx="974088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76120" y="257040"/>
              <a:ext cx="9528120" cy="25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"/>
          <p:cNvSpPr/>
          <p:nvPr/>
        </p:nvSpPr>
        <p:spPr>
          <a:xfrm>
            <a:off x="6132600" y="717552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9523440" y="709308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540F8-A648-4817-B4DD-5EA987580643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7175520"/>
            <a:ext cx="4308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49440" y="1569960"/>
            <a:ext cx="882000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"/>
          <p:cNvSpPr/>
          <p:nvPr/>
        </p:nvSpPr>
        <p:spPr>
          <a:xfrm>
            <a:off x="6132600" y="705636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28840" y="7056360"/>
            <a:ext cx="4643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9523440" y="709920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EB809-E914-4610-A73A-FD4E805F5404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03400" y="3602160"/>
            <a:ext cx="816444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"/>
          <p:cNvSpPr/>
          <p:nvPr/>
        </p:nvSpPr>
        <p:spPr>
          <a:xfrm>
            <a:off x="6132600" y="718020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4"/>
          </p:nvPr>
        </p:nvSpPr>
        <p:spPr>
          <a:xfrm>
            <a:off x="9523440" y="709776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F7354-B1C8-4464-AFC7-17F393D794E2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7180200"/>
            <a:ext cx="4308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49440" y="1569960"/>
            <a:ext cx="882000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"/>
          <p:cNvSpPr/>
          <p:nvPr/>
        </p:nvSpPr>
        <p:spPr>
          <a:xfrm>
            <a:off x="6132600" y="705636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28840" y="7056360"/>
            <a:ext cx="4643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5"/>
          </p:nvPr>
        </p:nvSpPr>
        <p:spPr>
          <a:xfrm>
            <a:off x="9526320" y="7099200"/>
            <a:ext cx="5094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0DE75-CCF5-41C2-BB95-0F25130BACEB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79320" y="2386080"/>
            <a:ext cx="413388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92720" y="2386080"/>
            <a:ext cx="413244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"/>
          <p:cNvSpPr/>
          <p:nvPr/>
        </p:nvSpPr>
        <p:spPr>
          <a:xfrm>
            <a:off x="6132600" y="705636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28840" y="7056360"/>
            <a:ext cx="4643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6"/>
          </p:nvPr>
        </p:nvSpPr>
        <p:spPr>
          <a:xfrm>
            <a:off x="9526320" y="7099200"/>
            <a:ext cx="5094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61C4B-6854-430A-A1CC-744B23C141B0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49440" y="1569960"/>
            <a:ext cx="882000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"/>
          <p:cNvSpPr/>
          <p:nvPr/>
        </p:nvSpPr>
        <p:spPr>
          <a:xfrm>
            <a:off x="6132600" y="705636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28840" y="7056360"/>
            <a:ext cx="4643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9523440" y="709920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BCD92-24C8-4D1A-AEE6-708C49688FBE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575320" y="1165320"/>
            <a:ext cx="413388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"/>
          <p:cNvSpPr/>
          <p:nvPr/>
        </p:nvSpPr>
        <p:spPr>
          <a:xfrm>
            <a:off x="6132600" y="718020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8"/>
          </p:nvPr>
        </p:nvSpPr>
        <p:spPr>
          <a:xfrm>
            <a:off x="9523440" y="709776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1930A-483D-4780-A280-7FC4C618D478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63640" y="7180200"/>
            <a:ext cx="4308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"/>
          <p:cNvSpPr/>
          <p:nvPr/>
        </p:nvSpPr>
        <p:spPr>
          <a:xfrm>
            <a:off x="6132600" y="717552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9"/>
          </p:nvPr>
        </p:nvSpPr>
        <p:spPr>
          <a:xfrm>
            <a:off x="9523440" y="709308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2FE59-8A32-43EE-8A91-B6595386C05C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63640" y="7175520"/>
            <a:ext cx="4308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hyperlink" Target="http://daniel-workman.suite101.com/germany-s-trade-buddies-a10156" TargetMode="External"/><Relationship Id="rId4" Type="http://schemas.openxmlformats.org/officeDocument/2006/relationships/hyperlink" Target="http://www.oecd.org/document/23/0,3746,en_2649_34117_44808343_1_1_1_1,00.html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500040" y="-92160"/>
            <a:ext cx="9509040" cy="1665360"/>
            <a:chOff x="500040" y="-92160"/>
            <a:chExt cx="9509040" cy="1665360"/>
          </a:xfrm>
        </p:grpSpPr>
        <p:pic>
          <p:nvPicPr>
            <p:cNvPr id="447" name="" descr=""/>
            <p:cNvPicPr/>
            <p:nvPr/>
          </p:nvPicPr>
          <p:blipFill>
            <a:blip r:embed="rId2"/>
            <a:stretch/>
          </p:blipFill>
          <p:spPr>
            <a:xfrm>
              <a:off x="500040" y="-92160"/>
              <a:ext cx="950904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00040" y="-92160"/>
              <a:ext cx="950904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By: Jes Baldeweg-Ra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500040" y="291960"/>
            <a:ext cx="9406080" cy="1287720"/>
            <a:chOff x="500040" y="291960"/>
            <a:chExt cx="9406080" cy="1287720"/>
          </a:xfrm>
        </p:grpSpPr>
        <p:pic>
          <p:nvPicPr>
            <p:cNvPr id="477" name="" descr=""/>
            <p:cNvPicPr/>
            <p:nvPr/>
          </p:nvPicPr>
          <p:blipFill>
            <a:blip r:embed="rId2"/>
            <a:stretch/>
          </p:blipFill>
          <p:spPr>
            <a:xfrm>
              <a:off x="500040" y="291960"/>
              <a:ext cx="9406080" cy="12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500040" y="291960"/>
              <a:ext cx="940608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68360" y="1722600"/>
            <a:ext cx="90709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daniel-workman.suite101.com/germany-s-trade-buddies-a101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oecd.org/document/23/0,3746,en_2649_34117_44808343_1_1_1_1,00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state.gov/r/pa/ei/bgn/3997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heritage.org/index/country/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globaltrade.net/international-trade-import-exports/f/business/text/Germany/Trade-Policy-Trade-Regulations-and-Standards-in-Germany.html?folderId=13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ttp://savingusmanufacturing.com/blog/general/how-did-germany-keep-position-as-the-world%E2%80%99s-top-exporter-for-so-lon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ttp://topforeignstocks.com/2010/08/15/germanys-top-trading-partners-and-export-good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4560" y="2865600"/>
            <a:ext cx="521964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849240" y="884160"/>
            <a:ext cx="8763120" cy="57913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914400" y="914400"/>
            <a:ext cx="3200400" cy="914400"/>
          </a:xfrm>
          <a:prstGeom prst="roundRect">
            <a:avLst>
              <a:gd name="adj" fmla="val 17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tsche Exporte sind in 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en Welt woll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500040" y="291960"/>
            <a:ext cx="9406080" cy="1287720"/>
            <a:chOff x="500040" y="291960"/>
            <a:chExt cx="9406080" cy="1287720"/>
          </a:xfrm>
        </p:grpSpPr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500040" y="291960"/>
              <a:ext cx="9406080" cy="12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00040" y="291960"/>
              <a:ext cx="940608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17640" bIns="50400" anchor="t">
            <a:noAutofit/>
          </a:bodyPr>
          <a:p>
            <a:pPr marL="430200" indent="-324000">
              <a:lnSpc>
                <a:spcPct val="100000"/>
              </a:lnSpc>
              <a:buClr>
                <a:srgbClr val="72a376"/>
              </a:buClr>
              <a:buSzPct val="45000"/>
              <a:buFont typeface="Wingdings" charset="2"/>
              <a:buChar char=""/>
              <a:tabLst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is a global trade supers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buClr>
                <a:srgbClr val="72a376"/>
              </a:buClr>
              <a:buSzPct val="45000"/>
              <a:buFont typeface="Wingdings" charset="2"/>
              <a:buChar char=""/>
              <a:tabLst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surpassed the U.S. to become the world’s leading exporter in 199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buClr>
                <a:srgbClr val="72a376"/>
              </a:buClr>
              <a:buSzPct val="45000"/>
              <a:buFont typeface="Wingdings" charset="2"/>
              <a:buChar char=""/>
              <a:tabLst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remained number one until 20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buClr>
                <a:srgbClr val="72a376"/>
              </a:buClr>
              <a:buSzPct val="45000"/>
              <a:buFont typeface="Wingdings" charset="2"/>
              <a:buChar char=""/>
              <a:tabLst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eutschland is the largest economy in the European Union and the fourth-largest 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buClr>
                <a:srgbClr val="72a376"/>
              </a:buClr>
              <a:buSzPct val="45000"/>
              <a:buFont typeface="Wingdings" charset="2"/>
              <a:buChar char=""/>
              <a:tabLst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exported $1.17 trillion while China’s exports were $1.2 trillion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tabLst>
                <a:tab algn="l" pos="0"/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687680" y="655560"/>
            <a:ext cx="685800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3280" y="279000"/>
            <a:ext cx="907416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marL="60480" indent="0" algn="r">
              <a:buNone/>
              <a:tabLst>
                <a:tab algn="l" pos="0"/>
                <a:tab algn="l" pos="60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International Demand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3280" y="181440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9440" bIns="50400" anchor="t">
            <a:normAutofit/>
          </a:bodyPr>
          <a:p>
            <a:pPr marL="318960" indent="-318960">
              <a:buClr>
                <a:srgbClr val="72a376"/>
              </a:buClr>
              <a:buSzPct val="70000"/>
              <a:buFont typeface="Rockwel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is relatively poor in raw material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buClr>
                <a:srgbClr val="72a376"/>
              </a:buClr>
              <a:buSzPct val="70000"/>
              <a:buFont typeface="Rockwel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ir products in high demand focus on engineering (automobiles, machinery, metals, and chemical goods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buClr>
                <a:srgbClr val="72a376"/>
              </a:buClr>
              <a:buSzPct val="70000"/>
              <a:buFont typeface="Rockwel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xports account for more than one-third of national output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buClr>
                <a:srgbClr val="72a376"/>
              </a:buClr>
              <a:buSzPct val="70000"/>
              <a:buFont typeface="Rockwel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 global brands are: Mercedes Benz, BMW, Volkswagen, Audi, Porsche (automobile), Adidas and Puma (clothing and footwear), T-Mobile (telecom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buClr>
                <a:srgbClr val="72a376"/>
              </a:buClr>
              <a:buSzPct val="70000"/>
              <a:buFont typeface="Rockwel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was the world’s fourth largest producer and largest exporter of automobil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239760" y="274680"/>
            <a:ext cx="4619520" cy="30481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5649840" y="274680"/>
            <a:ext cx="4133880" cy="31068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544680" y="3551400"/>
            <a:ext cx="3809880" cy="2943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7707240" y="2941560"/>
            <a:ext cx="2492280" cy="25909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3668760" y="2865600"/>
            <a:ext cx="3752640" cy="21240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7"/>
          <a:stretch/>
        </p:blipFill>
        <p:spPr>
          <a:xfrm>
            <a:off x="4811760" y="5151600"/>
            <a:ext cx="266688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503280" y="1814040"/>
            <a:ext cx="9074160" cy="528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18960" indent="-318960">
              <a:lnSpc>
                <a:spcPct val="100000"/>
              </a:lnSpc>
              <a:buClr>
                <a:srgbClr val="72a376"/>
              </a:buClr>
              <a:buSzPct val="7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uropean countries are the top exports for German good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lnSpc>
                <a:spcPct val="100000"/>
              </a:lnSpc>
              <a:buClr>
                <a:srgbClr val="72a376"/>
              </a:buClr>
              <a:buSzPct val="7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orts to China and other emerging countries are growing at a faster pace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 algn="just">
              <a:lnSpc>
                <a:spcPct val="100000"/>
              </a:lnSpc>
              <a:buClr>
                <a:srgbClr val="72a376"/>
              </a:buClr>
              <a:buSzPct val="7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many imports were worth 72.8 Billion EUR in January of 2012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 algn="just">
              <a:lnSpc>
                <a:spcPct val="100000"/>
              </a:lnSpc>
              <a:buClr>
                <a:srgbClr val="72a376"/>
              </a:buClr>
              <a:buSzPct val="7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many exports were worth 85.9 Billion EUR in January of 2011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 algn="just">
              <a:lnSpc>
                <a:spcPct val="100000"/>
              </a:lnSpc>
              <a:buClr>
                <a:srgbClr val="72a376"/>
              </a:buClr>
              <a:buSzPct val="7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recent years, traditional German exports like steel-making and textiles have shrunk significantly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0" algn="just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ffffff"/>
              </a:solidFill>
              <a:latin typeface="Rockwell"/>
            </a:endParaRPr>
          </a:p>
          <a:p>
            <a:pPr marL="318960" indent="0" algn="just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ffffff"/>
              </a:solidFill>
              <a:latin typeface="Rockwel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ffffff"/>
              </a:solidFill>
              <a:latin typeface="Rockwel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503280" y="279000"/>
            <a:ext cx="907416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marL="60480" indent="0" algn="r">
              <a:buNone/>
              <a:tabLst>
                <a:tab algn="l" pos="0"/>
                <a:tab algn="l" pos="60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e7eacb"/>
                </a:solidFill>
                <a:latin typeface="Rockwell"/>
              </a:rPr>
              <a:t>International Demands continued</a:t>
            </a:r>
            <a:endParaRPr b="0" lang="en-US" sz="47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1077840" y="655560"/>
            <a:ext cx="746784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500040" y="274680"/>
            <a:ext cx="9406080" cy="1279440"/>
            <a:chOff x="500040" y="274680"/>
            <a:chExt cx="9406080" cy="1279440"/>
          </a:xfrm>
        </p:grpSpPr>
        <p:pic>
          <p:nvPicPr>
            <p:cNvPr id="469" name="" descr=""/>
            <p:cNvPicPr/>
            <p:nvPr/>
          </p:nvPicPr>
          <p:blipFill>
            <a:blip r:embed="rId2"/>
            <a:stretch/>
          </p:blipFill>
          <p:spPr>
            <a:xfrm>
              <a:off x="500040" y="274680"/>
              <a:ext cx="94060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500040" y="274680"/>
              <a:ext cx="940608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03280" y="1768320"/>
            <a:ext cx="93376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rank is Germany’s economy among the wor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ccount for more than how much of Germany’s national outpu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500040" y="291960"/>
            <a:ext cx="9406080" cy="1287720"/>
            <a:chOff x="500040" y="291960"/>
            <a:chExt cx="9406080" cy="1287720"/>
          </a:xfrm>
        </p:grpSpPr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500040" y="291960"/>
              <a:ext cx="9406080" cy="12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500040" y="291960"/>
              <a:ext cx="940608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18960" indent="-318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One-Third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2:27:17Z</dcterms:created>
  <dc:creator/>
  <dc:description/>
  <dc:language>en-US</dc:language>
  <cp:lastModifiedBy>SCSadmin</cp:lastModifiedBy>
  <dcterms:modified xsi:type="dcterms:W3CDTF">2012-04-03T17:10:35Z</dcterms:modified>
  <cp:revision>8</cp:revision>
  <dc:subject/>
  <dc:title>Germany's International Economic Affairs</dc:title>
</cp:coreProperties>
</file>